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EAC-804A-4F75-9AA8-55D520F9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DF5-9E84-496D-B8A0-3168E3CD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198-BE6B-4AAF-9DE9-8BA9C000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C6E-18DA-484C-91A6-840AA49A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81B7-767D-4983-A381-8DDEE981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FF94-0533-479F-BD88-3A340745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1867-2E6A-49C8-93D3-95AD3BAE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B417-BC3D-4F34-A39B-9CC84E8F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8BB8-73E0-46B9-97FF-C903B7DF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4AD0-2BD3-4624-A615-005B4ECE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D63D-D23F-416A-8996-E486FBC4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0ECA-88F3-4A0C-A163-2BA0F14E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FEC2-5B49-4622-A5F5-26A04FD0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5C6E-E408-4F0F-AD7B-C04849E8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5487-43E3-4AB3-849E-55FA6C18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E808-6EC7-4E98-B761-F14F7377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96A1-7FAE-4A52-9BAF-C5B93F57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6AB97-290D-44BF-9422-E4534E32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ADF15-8E0B-453A-904B-18E68D65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46E38-B456-4D00-B274-4F2C110E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4EF24-3F1F-4379-B9B2-9C7A1E36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51A2A-35BE-43F8-96C3-F2D49F4A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A3E2-F483-427B-ADC9-67D34892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E2451-5998-43E9-B42D-7B403630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C244D-8CDC-4EC4-AC36-6B744035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5340D-6F1F-4FB7-B3A3-BD136C03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843FF-1A29-4D3F-B71D-6345CDBF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496CC-B098-4D5D-AC72-B539AC2D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36A55-487E-411F-B0DE-70EDB55E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9F79C-F280-4C3C-BA70-50F6BDF2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3939B5-D345-4CF6-AFD2-5DDBBBE9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5F7444-F471-4398-B542-012F0DA7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C422A4-C650-40FA-B44D-90843565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B02-C6B8-4B50-9411-DDEB071C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E1BC4C-DFCE-4625-9396-0AD18C2A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6A3F9D-85B6-42D2-89D1-FBE13B46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41DAB-827B-410D-9930-F5A0F88D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6D54D-6829-48C6-BFB6-B5CAF731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3B6E60-419A-42ED-8893-92B7A9A4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060625-71AB-47AB-9EF2-3B330EA1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5FBD8-122E-4904-B3C5-5AE26E11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14A4A2-72C8-4787-B2EB-F7B24843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E2550B-0502-4746-BD0E-D163F6BD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43EE1-F9BD-4D07-BA24-2E797684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BD2-5C67-4FA8-B55B-813D8D0B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908B4C-5E32-454B-AD46-5437DCA5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BB718-D258-4500-BFBA-E0512024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F57110-93CF-4C96-A6F3-DE4C6FC6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5A54E6-1F15-47AE-9021-53035440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59D844-501F-4AE0-A0CE-8D034CDA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FA4640-5F2C-4DB1-992A-5C9C290B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C3D2E7-4CA2-4E21-A3FE-3E6D8C7B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7AFED-6D7D-4245-845B-4C3ADCC5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594563-DF27-4A27-B7FC-5DF6BE3F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F47454-A25B-4405-9D0D-FF78CF0C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73A-1069-4B73-B3C2-D9E02585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F6881A-BEC9-47D7-A125-DE9DF11E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D576E-4544-4A81-A59E-F6E7EE90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81187-49E0-4E06-85E0-F02D5E66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FAE4F-F56D-4BF7-AE26-3969F962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419FD-3C85-445F-8AC6-C41A74F2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3ED4F-0D2D-462C-B40C-B125AD19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3EFED-72B4-4489-8C2C-41D3C8A6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EF3A1-5C0B-4D0A-9BC0-4FD0E8E5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0322C-F895-40AF-8E97-7C4629F1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1BDD2-CE31-434A-94F6-DC95D5D7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2AC-A43A-47DE-ABA9-1040FE01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D7F2E-2282-4D9A-97AC-ACFC6F22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C5AB1-8B05-4B5A-8074-360F15EC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8784D-1D24-4B3A-88EB-3A191EBA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3D06BB-112E-4462-A309-C9B877F4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AF3BEB-4C68-416E-8E9C-3069631E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D4716F-7357-4D3D-B19A-E10B98BD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568496-27B6-483C-956D-443A940D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2E96D2-7B16-4E40-8E8F-04103DB5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EEDCFE-C379-4970-9BA1-10C48FD0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1925D-8535-4ECC-9DF5-0E048D13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1CBA-A405-49F7-A51E-0C80835F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C93FF1-24E8-47BA-A81A-0063436E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554331-9502-4CEC-8A93-9483AE0E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F4A08B-9A93-4124-84AF-67F583FD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FA3566-4876-4B43-977C-4339D630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692DF0-1CD2-451E-B07B-5AACCA9A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F3767-DDD8-479B-B2A0-96490903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EEA51-62A1-420E-B812-86C9EB8A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6AEE8-4960-4C39-8CDC-659EB0F6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DDD34-DB5F-4021-9E7D-DD3432DA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CB07B-3085-41AE-8C30-94BD50F0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911-A3B5-4C97-B542-89DE1372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95AB1-F96E-42CD-9878-8CF450FC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0DC46-5619-458D-A997-088C4B71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DBB95-6838-4991-B608-D15FE189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B4C20-2F38-4CEE-95A1-8A504652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484E2-F7AC-44EE-9A6B-C9B54809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DE864-303C-4771-A7EF-FA720109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2AF7A-3C43-48BB-B513-35B58659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0447-244D-4D77-A69A-898545D760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2E50-D7C7-414D-8622-47BCEC0C7FAF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ECB5-C9DE-4DD0-8A17-C81EDB66DD3F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85EA-051E-4D59-A221-53402FD981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6F98-0C62-470F-B125-F5EE4D2BA1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522C-2B69-4B00-A588-5292B4005EDB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3047-AF9E-43C5-AFCA-180F78DEBCE8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CDB3-4899-406A-BBD6-F47283A1F2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ddc9d"/>
                </a:solidFill>
                <a:latin typeface="Tw Cen MT"/>
              </a:rPr>
              <a:t>INTERMEDIATE 2 ENGLISH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w Cen MT"/>
              </a:rPr>
              <a:t>What you need to do to pas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a5038"/>
                </a:solidFill>
                <a:latin typeface="Tw Cen MT"/>
              </a:rPr>
              <a:t>In May, you will sit two exam papers as your final exam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ritical Essay paper – 1 hour 30 mins (50% of your final grade.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lose Reading paper – 1 hour (50% of your final grade.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t before you sit these, you need to pass your NABs firs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a5038"/>
                </a:solidFill>
                <a:latin typeface="Tw Cen MT"/>
              </a:rPr>
              <a:t>What are NAB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NABs (National Assessment Bank tasks) are exam tasks which test your competence and to check that you’re ready to sit the final exam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ese are pass/fail assessed – </a:t>
            </a:r>
            <a:r>
              <a:rPr b="1" lang="en-GB" sz="2900" spc="-1" strike="noStrike">
                <a:solidFill>
                  <a:srgbClr val="000000"/>
                </a:solidFill>
                <a:latin typeface="Tw Cen MT"/>
              </a:rPr>
              <a:t>you will not get a grade for your NAB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ey </a:t>
            </a:r>
            <a:r>
              <a:rPr b="1" lang="en-GB" sz="2900" spc="-1" strike="noStrike">
                <a:solidFill>
                  <a:srgbClr val="000000"/>
                </a:solidFill>
                <a:latin typeface="Tw Cen MT"/>
              </a:rPr>
              <a:t>do not 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ntribute towards your final grade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f you fail a NAB, you will get another chance to resit them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a5038"/>
                </a:solidFill>
                <a:latin typeface="Tw Cen MT"/>
              </a:rPr>
              <a:t>How many and what types of NAB will I sit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80000"/>
              </a:lnSpc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Tw Cen MT"/>
              </a:rPr>
              <a:t>Close Reading  </a:t>
            </a: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- this is similar to the final Close Reading paper you will sit in May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lnSpc>
                <a:spcPct val="80000"/>
              </a:lnSpc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Tw Cen MT"/>
              </a:rPr>
              <a:t>Textual Analysis </a:t>
            </a: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– where you read an unseen poem or other form of fiction and answer questions on the techniques used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lnSpc>
                <a:spcPct val="80000"/>
              </a:lnSpc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Tw Cen MT"/>
              </a:rPr>
              <a:t>Personal Study Unit </a:t>
            </a:r>
            <a:r>
              <a:rPr b="0" lang="en-GB" sz="2700" spc="-1" strike="noStrike" u="sng">
                <a:solidFill>
                  <a:srgbClr val="000000"/>
                </a:solidFill>
                <a:uFillTx/>
                <a:latin typeface="Tw Cen MT"/>
              </a:rPr>
              <a:t>– </a:t>
            </a: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this is where you read a text of your choosing which has been accepted by your teacher, and then answer a task on it under exam conditions. (you are allowed to take notes and your text into the exam.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lnSpc>
                <a:spcPct val="80000"/>
              </a:lnSpc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Tw Cen MT"/>
              </a:rPr>
              <a:t>Writing</a:t>
            </a:r>
            <a:r>
              <a:rPr b="1" lang="en-GB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– you will write either an argumentative, creative or discursive essay on a topic of you choosing (you are allowed to take notes into the exam.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a5038"/>
                </a:solidFill>
                <a:latin typeface="Tw Cen MT"/>
              </a:rPr>
              <a:t>Literature – what does this paper require me to do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You will answer a task from two different sections of the paper (Drama/Prose/Poem/Media etc.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Each essay will each be graded out of 25, before being added up and calculated out of 50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Your grade will then fall into either of the following banding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8a5038"/>
                </a:solidFill>
                <a:latin typeface="Tw Cen MT"/>
              </a:rPr>
              <a:t>The grade you will achieve will be either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w Cen MT"/>
              </a:rPr>
              <a:t>Grade A 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(Band I)  20 - 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w Cen MT"/>
              </a:rPr>
              <a:t>Grade B 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(Band II)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16 -19 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w Cen MT"/>
              </a:rPr>
              <a:t>Grade C  (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and III) 12-1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w Cen MT"/>
              </a:rPr>
              <a:t>Grade D 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(Band IV)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8-11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Close Reading – What does this paper require me to do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You will read an unseen passage – normally non-fiction such as a broadsheet newspaper article or travel writ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You will then answer questions, which total 30 mark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You will answer different types of questions, e.g Understanding (U), Analysis (A) and Evaluation (E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You need to achieve at least 15 marks in order to pass the Close Reading pap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a5038"/>
                </a:solidFill>
                <a:latin typeface="Tw Cen MT"/>
              </a:rPr>
              <a:t>What are the Performance Criteria for Critical Essays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s appropriate to task, the response demonstrates secure understanding of key elements,central concerns and significant details of the  tex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response explains accurately and in detail ways in which relevant aspects of structure/style/ language contribute to meaning/effect/impac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response reveals clear engagement with the text(s) or aspects of the text(s) and stated or implied evaluation of effectiveness, substantiated by detailed and relevant evidence from the text(s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ructure, style and language, including use of appropriate critical terminology, are deployed to communicate meaning clearly and develop a line of thought which is sustainedly relevant to purpose; spelling, grammar and punctuation are sufficiently accurat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6:39:11Z</dcterms:created>
  <dc:creator> </dc:creator>
  <dc:description/>
  <dc:language>en-US</dc:language>
  <cp:lastModifiedBy>Your User Name</cp:lastModifiedBy>
  <dcterms:modified xsi:type="dcterms:W3CDTF">2011-05-30T14:50:37Z</dcterms:modified>
  <cp:revision>3</cp:revision>
  <dc:subject/>
  <dc:title>Intermediate 2 English</dc:title>
</cp:coreProperties>
</file>